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wmf" ContentType="image/x-wmf"/>
  <Override PartName="/ppt/media/image3.gif" ContentType="image/gif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4004-CFEE-493A-A0D3-6931740C3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910D-7669-4D9F-8778-648235BF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E195-5AD2-4D73-94FC-CE70801B3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F764-D9D6-479B-B289-8B340B149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99A1-D381-4DC6-BE8D-3DF947E38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7DDA-15CB-476D-94ED-6989B65B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CCAB-B71E-4FD9-8907-BB65147A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58C4-E0CC-4EB3-A5D9-8D4B97EB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5B18-A68F-4A4C-996C-B0625CC8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13E5-D93A-4102-9132-7293D0E1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99AA-DE1B-4643-BF58-188B3DD6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5A62-4091-4B75-B208-DB463689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799C-06B2-4E60-B241-5F79CEE9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DF9A-DE91-44C3-BE38-1056018D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69CA-1253-49B7-B802-DEA7D7ED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394C5-3AA0-43D3-A3AF-1B138FC2E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3401-7BFC-48C9-8324-D465A611A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75D4-7CF5-45E5-9117-6C8B8765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8CAD-BCAA-4C81-81F5-D38BCAA1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84AD-FFB4-47EB-B095-8E2F580E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A037-9987-43CA-8240-636DA0BD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01D3-22B6-4518-85F3-08322D0E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1D05-0859-4292-A203-AFE7688C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F1D9-F2DE-48D5-877B-FF96CAB5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C21B-FBDD-4C47-9526-E7BE72EF20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4A5D-2BC8-4FFE-99D8-DDFB87A561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hyperlink" Target="http://arbuz.lisik.pl/historia/poczet/dobrawa.jpg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pzubrzycadolna.republika.pl/chrobry.htm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278136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Bolesław Chrobry (992 - 1025) -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pierwszy król Polsk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132000" y="992160"/>
            <a:ext cx="2808360" cy="1987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348000" y="4437000"/>
            <a:ext cx="2232000" cy="14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statni król Polsk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statnim królem Polski był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anisław August Poniatowski(1764-179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916360" y="2924280"/>
            <a:ext cx="3238200" cy="37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cc"/>
                </a:solidFill>
                <a:latin typeface="Tahoma"/>
              </a:rPr>
              <a:t>Bolesław - syn </a:t>
            </a: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Mieszka</a:t>
            </a:r>
            <a:r>
              <a:rPr b="0" lang="pl-PL" sz="3600" spc="-1" strike="noStrike">
                <a:solidFill>
                  <a:srgbClr val="ffffcc"/>
                </a:solidFill>
                <a:latin typeface="Tahoma"/>
              </a:rPr>
              <a:t> I z rodu Piastów i Dobrawy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eszko I (960-992) – pierwszy historyczny władca Polski, ojciec Bolesław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Dobrawa (940- 977) – żona Mieszka I, matka Bolesława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411280" y="3284640"/>
          <a:ext cx="2571840" cy="338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3284640"/>
                    <a:ext cx="2571840" cy="33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641920" y="3284640"/>
            <a:ext cx="2386080" cy="3384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11280" y="260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Książę Bolesław obejmuje władzę - 992r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 śmierci Mieszka I i wygnaniu przyrodniego brata, Bolesław obejmuje władzę nad zjednoczoną przez ojca Polsk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771640" y="2421000"/>
          <a:ext cx="4608720" cy="41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71640" y="2421000"/>
                    <a:ext cx="460872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Św. Wojciec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384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 997r. z rąk pogańskich Prusów ginie biskup czeski Wojciech. Chrobry, któr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był przyjacielem biskupa, wykupuje ciało z rąk Prusów  za tyle złota, ile ważą jego zwłoki i dokonuje ich pochówku w Gnieźnie . Wkrótce papież ogłasza Wojciecha świętym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773000"/>
            <a:ext cx="403848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Życie i śmierć św. Wojciecha przedstawiają drzwi gnieźnieńskie - arcydzieło sztuki romańskiej wykonane w  brązi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148360" y="2852640"/>
            <a:ext cx="274644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Zjazd w Gnieźnie- 1000r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 1000r. do grobu św. Wojciecha w Gnieźnie przybywa cesarz Niemiec - Otton III. Uroczyście wita go książę Bolesław. Cesarz widząc potęgę i bogactwo polskiego władcy, przymierza mu na głowę cesarski diadem, zgadzając się tym samym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a koronację królewską Chrobreg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ługie lata oczekiwani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iestety wkrótce po wizycie w Gnieźnie Otton III umiera. Jego następca prowadzi długoletnie wojny z Bolesławem (1002- 1018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pragniona koron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025 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Bolesław Chrobry zostaje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ierwszym królem Polsk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87640" y="2852640"/>
            <a:ext cx="2952720" cy="40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Śmierć króla – 1025r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iestety król długo nie cieszył się koroną. W kilka miesięcy po koronacji zmarł. Jednak zostawił Polskę silną, rządził mądrze i odważnie. Dlatego otrzymał przydomek Chrobry, tzn.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dważny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 Za swe zasługi nazywany jest też przez wielu Bolesławem Wielki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lska króló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d czasów Chrobrego Polską rządzili królowie. Oznaką królewskiego panowania były insygnia królewskie :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jabłko, berło, korona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 poniżej insygnia na współczesnym banknocie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DETAL"/>
          <p:cNvPicPr/>
          <p:nvPr/>
        </p:nvPicPr>
        <p:blipFill>
          <a:blip r:embed="rId2"/>
          <a:stretch/>
        </p:blipFill>
        <p:spPr>
          <a:xfrm>
            <a:off x="1763640" y="2808360"/>
            <a:ext cx="6121440" cy="3860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10:17:49Z</dcterms:created>
  <dc:creator>Administrator</dc:creator>
  <dc:description/>
  <dc:language>en-US</dc:language>
  <cp:lastModifiedBy>Administrator</cp:lastModifiedBy>
  <dcterms:modified xsi:type="dcterms:W3CDTF">2004-06-18T10:17:48Z</dcterms:modified>
  <cp:revision>5</cp:revision>
  <dc:subject/>
  <dc:title>Bolesław Chrobry ( 992- 1025)</dc:title>
</cp:coreProperties>
</file>